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26C2-98C8-48DF-9F32-2D700BA07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5835-FD40-42E8-8703-56A570605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8039-F1FC-4006-A95E-B8C33FDD8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F885-9777-469F-95F7-38543A278A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93C87-EECD-4653-980E-4A923CE84A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E5B2E-7DCD-4F27-A03D-2041A2A77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C72C-B513-479F-8C6D-0AF36E886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C5AC-B969-49BD-937D-EAC40081D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1B2A-18A2-44F6-9CFB-B046ED5CE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54A7-BA89-4D1C-90BB-466D78647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9DE1-B368-4E1D-B32B-DDA6C3187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0E0F-5C5F-44EE-9D0E-D04670A33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FC07-5B41-4394-9B7A-549C5DE484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he%20real%20meaning%20of%20MPH-%20The%20Original.mp4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F4FA-DB9F-4251-924E-45EFE2F7C4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plore, Discuss, Summariz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materials for your topic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s students struggle (F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Diagnostic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SB, F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c000"/>
                </a:solidFill>
                <a:latin typeface="Arial"/>
              </a:rPr>
              <a:t>Intervention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SB, F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summary sheet (chart paper) of key ideas and tips for secondary teac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128A-9C64-4846-BB8C-76DA19287E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haring our Insigh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ig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umber off in your groups (1-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llery walk – 5 minutes /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0244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4FCE-074D-48C7-9E91-A6720582E5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MS902454.wav" descr=""/>
          <p:cNvPicPr/>
          <p:nvPr/>
        </p:nvPicPr>
        <p:blipFill>
          <a:blip r:embed="rId1"/>
          <a:stretch/>
        </p:blipFill>
        <p:spPr>
          <a:xfrm>
            <a:off x="7432560" y="47577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86" name="Oval 21"/>
          <p:cNvSpPr/>
          <p:nvPr/>
        </p:nvSpPr>
        <p:spPr>
          <a:xfrm>
            <a:off x="6873840" y="3965400"/>
            <a:ext cx="2052720" cy="20512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2"/>
          <p:cNvSpPr/>
          <p:nvPr/>
        </p:nvSpPr>
        <p:spPr>
          <a:xfrm>
            <a:off x="6873840" y="3965400"/>
            <a:ext cx="2052720" cy="205128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4885560" y="488304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300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0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178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io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back to your scary fraction st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you help this stu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3857-644E-4C33-BA33-34CC3CB702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lope and Fraction Meaning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view the Pancake Proble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fraction meanings do you see in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o they connect to each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BF1C-6466-4FB8-9662-00742FB467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 and Predic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secondary students respond to the following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2721-DB0A-4B49-962E-2D2E9CB971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One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 an assignment, Jaime received the following scores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ction A:          Section B:         Total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Jaime was confused, because using what she knew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ractions, she didn’t think that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would you explain this to Jaime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6750-4E22-4D8E-BB93-20397E3FCC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2133720" y="2362320"/>
                <a:ext cx="2538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4419720" y="2362320"/>
                <a:ext cx="2538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5867280" y="2362320"/>
                <a:ext cx="4194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7"/>
              <p:cNvSpPr txBox="1"/>
              <p:nvPr/>
            </p:nvSpPr>
            <p:spPr>
              <a:xfrm>
                <a:off x="4876920" y="3809880"/>
                <a:ext cx="15494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Two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w what you know about 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different representations to communicate you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5DA3-252E-4657-973D-198778A1D4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5715000" y="1447920"/>
                <a:ext cx="4827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7327800" y="1523880"/>
                <a:ext cx="4572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Three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ive a real life example of a problem where the solution could involve dividing by 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6B47-E30D-4A15-9EF3-09AD5A77B3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Four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 you know about          ?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diagrams, numbers, algebra, words etc. to communicate you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94F7-4E5F-461F-92C1-A2A194A0EA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5181480" y="1523880"/>
                <a:ext cx="723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Fiv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one sentence that  makes sense that includes ALL of  these words and numbers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per, fraction, simple, challenging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4A0C-613D-4BFA-B9E6-559E808703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 and 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presentations and meanings of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nections to secondary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lated Gap Closing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s students struggle with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90D5-9607-445A-B297-3769AFB7B5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king Predi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misconceptions might students have when doing these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some predi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BE28-150C-48C7-8BFA-0C330A49EA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have you noticed /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your lingering wonder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1102-9F47-4BFF-BF65-1A96776B2E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uestions and comments will be presented with the intent to move the collective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EE21-AAF0-4378-A9F5-244A343720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cary Stor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a story from your personal teaching experience involving student misconceptions about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ner/Outer Circle – share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02C1-FCEA-460B-8567-FD35C6CFBC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MS902392.wav" descr=""/>
          <p:cNvPicPr/>
          <p:nvPr/>
        </p:nvPicPr>
        <p:blipFill>
          <a:blip r:embed="rId1"/>
          <a:stretch/>
        </p:blipFill>
        <p:spPr>
          <a:xfrm>
            <a:off x="7902720" y="413064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60" name="Oval 5"/>
          <p:cNvSpPr/>
          <p:nvPr/>
        </p:nvSpPr>
        <p:spPr>
          <a:xfrm>
            <a:off x="6966000" y="3338640"/>
            <a:ext cx="2052720" cy="205236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6966000" y="3338640"/>
            <a:ext cx="2052720" cy="2052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7156800" y="283536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60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600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17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eanings and Conne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dividuall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a fraction, and represent it in as many different ways as you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two problems from secondary math that feature THAT fra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5C69-A9DB-452B-A0F8-27FAFD8BB0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two people with the same fraction as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meanings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to curriculum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44F2-02F6-4285-A66B-6F18EFF7E8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ap Clos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atch This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6C47-9D99-45C9-83B9-DC4C06A892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6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ap Closing - Organiz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73" name="Content Placeholder 4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8248680" cy="5291280"/>
          </a:xfrm>
          <a:prstGeom prst="rect">
            <a:avLst/>
          </a:prstGeom>
          <a:ln w="0">
            <a:noFill/>
          </a:ln>
        </p:spPr>
      </p:pic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A94C-8A19-4386-8BAB-A83AE6DC79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Up-Down Arrow 5"/>
          <p:cNvSpPr/>
          <p:nvPr/>
        </p:nvSpPr>
        <p:spPr>
          <a:xfrm>
            <a:off x="1611360" y="3276720"/>
            <a:ext cx="380880" cy="76176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7575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ploring GAP Clos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Gap Clos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Fractions Subtop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) Comp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2) Adding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3) Subtracting Fr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3) Multiplying Fr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4) Dividing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5) Relating Situations to Fraction Ope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C0A8-4DD5-4AE3-A9FD-3BFC7BA1C2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24T14:31:11Z</dcterms:modified>
  <cp:revision>40</cp:revision>
  <dc:subject/>
  <dc:title>&lt;Title&gt;</dc:title>
</cp:coreProperties>
</file>